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22B-4B9B-4AF5-97A8-91FDC868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96A-CA16-47A7-A0B4-970D56D9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B73-BE8E-4E36-9E55-9353446A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E75-BBDE-403B-BDFB-30A522FB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727-2FAC-46FC-BBC9-2F760077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D57-BD88-43B7-A751-F772E55A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674-64C8-42AB-8ADE-51A8AFB9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0CA-F3D1-4BAC-B045-6336735D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7D8-1AB1-45DF-AEFA-06C25962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3DB-2AB7-4262-A7CF-E84C22F0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9AD-A9A5-443C-A015-CBC0CBC9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AC08-C2F8-4F01-BB92-67C6DBEF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F35D-8DB6-4034-8E0D-6ADCE3C08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W1400 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 all channels of A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time and frequency domai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various SFDR and SNR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 DAC with user loadable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827600" y="1600200"/>
          <a:ext cx="3679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0" y="1600200"/>
                    <a:ext cx="3679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W1400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board supporting both ADC and D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capture size up to 512M samples shared by all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ix IV FPGA allowing the DDR input clock from the ADC as fast as 700 MHz DDR (potential for 800M D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taneous capture of multiple ADC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triggering pro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board LEDs for visual indication of various stages during data cap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capture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 configurable for fast boo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827600" y="1600200"/>
          <a:ext cx="3679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0" y="1600200"/>
                    <a:ext cx="3679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SW1400 FPGA DAC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838080"/>
          <a:ext cx="563868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563868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SW1400 FPGA ADC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00200" y="685800"/>
          <a:ext cx="579132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85800"/>
                    <a:ext cx="57913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5:46:31Z</dcterms:created>
  <dc:creator>a0212486</dc:creator>
  <dc:description/>
  <dc:language>en-US</dc:language>
  <cp:lastModifiedBy>a0181823</cp:lastModifiedBy>
  <dcterms:modified xsi:type="dcterms:W3CDTF">2012-05-17T18:45:02Z</dcterms:modified>
  <cp:revision>6</cp:revision>
  <dc:subject/>
  <dc:title>TSW1400 block diagram</dc:title>
</cp:coreProperties>
</file>